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D7D-2A55-4AB2-873B-37E04CF8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0E3-EFB2-4FBC-B752-2A15D44D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4D1-311C-43DA-BB72-7DDB453B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AC4-19EC-4659-959C-F93DC718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370-CC8E-4940-8874-DE88489B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AEAA-FC73-4BA2-8DE5-86F95639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732F-1747-49A5-8CD1-3581397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5C70-F3BC-4C41-9802-C4E3D0F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6763-B9E6-468C-9EE6-1B00827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7C6-67E7-40CC-965F-A7329BCE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BF3-8D47-450D-94C2-5A8F1F43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E05-E664-42A6-8E2D-8F151D49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2AF-EE32-4D2C-82FF-3936279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770C-CAE4-4475-A3E0-E8EBDD7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B574-BC66-4869-8793-621CD99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8240-E5E5-4CE0-9DB4-E00F853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C8B-D8E7-4052-A506-52C1EFF2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909-1C71-4DFB-BA9D-13A6727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72A-9DFD-4A87-A23C-27E54680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177-C57D-4FCF-9C80-A8282DC2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E24-C79A-4424-A973-D19FD827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70C-2456-4C87-B830-B173C9A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794-D898-4E2B-9BD6-CDB33D5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9D9-CD34-4FD7-9DBA-5CBBD9E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1F6-A78D-4A86-AFDA-D2FA48805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C88-9BBF-4D16-941A-E8CB3ED81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Long, O Lor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7-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CB80-C081-4F0F-8DC6-E14057010D3A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Law Regarding Sacrif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dow of good things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is not the very image of those goo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crifices offered under this law could not make one pre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is system there was a reminder of sins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not possible that the blood of bulls and goats could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8DB-D40A-4549-A229-9F3166221162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Law Regarding Sacri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d no pleasure in burnt offerings and sacrifices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ests stood ministering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ffered repeatedly the same sacrifices which could never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50D-5006-483E-84B6-7BA355944568}" type="slidenum">
              <a:t>3</a:t>
            </a:fld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’ Sacri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ed onc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sacrifice required b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God’s will is what Jesus came to do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doing this, Jesus sat down at the right ha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8B3-A319-4CB5-ABDA-B86BAFFE1FD7}" type="slidenum">
              <a:t>4</a:t>
            </a:fld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’ Sacrifi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one offering He has perfected forever those who are sanc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new covenant brought about by Jesus’ sacrifice, the Lord said: “I will put My laws into their hearts, and in their minds I will write them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dds, “their sins and their lawless deeds I will remember no m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re is remission of sins, there is no longer an offering fo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010-EB79-4886-94E4-F5F9090368DB}" type="slidenum">
              <a:t>5</a:t>
            </a:fld>
          </a:p>
        </p:txBody>
      </p:sp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Is Our High 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old to enter the Holiest by the blood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a new and living way which he consecrated for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draw near to God with a true heart in full assurance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fast that confession of our hope without wav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E8A-5B86-4A56-8C55-A03167F61CDC}" type="slidenum">
              <a:t>6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Is Our High Prie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consider one another in order to stir up love and good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sake the assembling of ourselves together as do s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ncourage each other as the day of trial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EF9-C347-40A3-9109-EFA08B7AFA66}" type="slidenum">
              <a:t>7</a:t>
            </a:fld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And Exh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ne learns the truth and then willfully sins, there remains no more sacrifice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thing left is the certainty of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who rejected Moses’ law died without mercy on the testimony of two or three 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DDF-43E8-4988-9D6D-2806D3887410}" type="slidenum">
              <a:t>8</a:t>
            </a:fld>
          </a:p>
        </p:txBody>
      </p:sp>
    </p:spTree>
  </p:cSld>
  <p:transition>
    <p:checke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And Exh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sorer punishment do you suppose one deserves who tramples underfoot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fearful thing to fall into the hands of the liv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keep their boldness in the Lord, have a better and enduring possession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raw back to perdition, but endure so as to receive the re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7BF-BE6E-4F32-A8A2-4BE4F4D218CB}" type="slidenum">
              <a:t>9</a:t>
            </a:fld>
          </a:p>
        </p:txBody>
      </p:sp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50:38Z</dcterms:created>
  <dc:creator>billy lauderdale</dc:creator>
  <dc:description/>
  <dc:language>en-US</dc:language>
  <cp:lastModifiedBy>Frank D Vines</cp:lastModifiedBy>
  <dcterms:modified xsi:type="dcterms:W3CDTF">2007-08-22T20:57:41Z</dcterms:modified>
  <cp:revision>11</cp:revision>
  <dc:subject/>
  <dc:title>How Long, O Lord</dc:title>
</cp:coreProperties>
</file>